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102-F3FF-4DBB-827D-991C26BE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5AC6-8520-4673-B799-B84EFD18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58DB-EF8F-4E00-B1FF-3A8E0AF3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ECA-65E6-4172-8BDB-FB3497F1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F0C-72FC-4A64-B5BF-2247AAD1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2CC-7054-4BD1-B86A-698537F1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054-809E-4E07-856C-D04A5E1B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0C8-176C-46F2-A40E-10201CF7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301-83EF-4B63-8F7E-34F21C53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C28-8F4C-46D0-A0F9-5DE62C53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581-C921-4261-8468-2C3D6B27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FEE-B1B3-4422-880E-D4F64C7D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F0FB-8039-4621-8B76-587DEDA7E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стандартизации СППП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ормативная б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292280"/>
            <a:ext cx="6440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ум СТиС Стамбу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25-28.04.20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|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. Артю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WUTemp\120418 - СППП шаблон\SPPP3.jpg"/>
          <p:cNvPicPr/>
          <p:nvPr/>
        </p:nvPicPr>
        <p:blipFill>
          <a:blip r:embed="rId1"/>
          <a:stretch/>
        </p:blipFill>
        <p:spPr>
          <a:xfrm>
            <a:off x="179280" y="216000"/>
            <a:ext cx="22431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92360" y="907920"/>
            <a:ext cx="745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33336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зработка стандартов СП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445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:\WUTemp\120418 - СППП шаблон\SPPP3.jpg"/>
          <p:cNvPicPr/>
          <p:nvPr/>
        </p:nvPicPr>
        <p:blipFill>
          <a:blip r:embed="rId1"/>
          <a:stretch/>
        </p:blipFill>
        <p:spPr>
          <a:xfrm>
            <a:off x="108000" y="115920"/>
            <a:ext cx="1650960" cy="1728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1197000"/>
            <a:ext cx="864216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групп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четные мет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 сопротивления теплопередачи оконного бл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 сопротивления теплопередачи системы рама-ств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 нагрузок и воз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 К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 экономической эффективности применения оконны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ов различной комплектации при строительстве новы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ов и реконструкции з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92360" y="907920"/>
            <a:ext cx="745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33336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зработка стандартов СП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3445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:\WUTemp\120418 - СППП шаблон\SPPP3.jpg"/>
          <p:cNvPicPr/>
          <p:nvPr/>
        </p:nvPicPr>
        <p:blipFill>
          <a:blip r:embed="rId1"/>
          <a:stretch/>
        </p:blipFill>
        <p:spPr>
          <a:xfrm>
            <a:off x="108000" y="115920"/>
            <a:ext cx="1650960" cy="1728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3671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6160" y="1341360"/>
            <a:ext cx="75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 разработки стандартов СППП на 2012-2013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2205000"/>
          <a:ext cx="8713800" cy="4052880"/>
        </p:xfrm>
        <a:graphic>
          <a:graphicData uri="http://schemas.openxmlformats.org/drawingml/2006/table">
            <a:tbl>
              <a:tblPr/>
              <a:tblGrid>
                <a:gridCol w="720720"/>
                <a:gridCol w="5616360"/>
                <a:gridCol w="237672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тандарта , 2012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/Гото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и ПВХ. Систем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  /  12г.2к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четный мето.д определения приведенного сопротивления теплопередачи оконных бл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 /   12г.2к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чет экономической эффективности применения оконных блоков различной комплектации при строительстве новых объектов и реконструкции зда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 /    12г.3к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ации по монтажу оконных и дверных блоков из ПВХ-профи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/   12г. 4к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и оконные из ПВХ-профи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/    12г.4к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и дверные входные из ПВХ-профи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/   12г.4к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92360" y="907920"/>
            <a:ext cx="745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33336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зработка стандартов СП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3445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C:\WUTemp\120418 - СППП шаблон\SPPP3.jpg"/>
          <p:cNvPicPr/>
          <p:nvPr/>
        </p:nvPicPr>
        <p:blipFill>
          <a:blip r:embed="rId1"/>
          <a:stretch/>
        </p:blipFill>
        <p:spPr>
          <a:xfrm>
            <a:off x="108000" y="115920"/>
            <a:ext cx="1650960" cy="1728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3671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98040" y="1844640"/>
            <a:ext cx="75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 разработки стандартов СППП на 2012-2013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2565360"/>
          <a:ext cx="8713800" cy="3448080"/>
        </p:xfrm>
        <a:graphic>
          <a:graphicData uri="http://schemas.openxmlformats.org/drawingml/2006/table">
            <a:tbl>
              <a:tblPr/>
              <a:tblGrid>
                <a:gridCol w="720720"/>
                <a:gridCol w="5616360"/>
                <a:gridCol w="23767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тандарта , 2013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/Гото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и дверные входные из ПВХ-профи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 /   13г.3к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и цветные для изгот.оконных и дверных бло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 /   13г.4к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и оконные из ПВХ-профилей. Методы испыт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 /   13г.4к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а обследования оконных блоков в натурных услови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 /   13г.4к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и оконные из ПВХ-профилей. Рекомендации по проектированию и конструирован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 /   13г.4к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92360" y="907920"/>
            <a:ext cx="745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404640"/>
            <a:ext cx="69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оюз производителей полимерных профи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3445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:\WUTemp\120418 - СППП шаблон\SPPP3.jpg"/>
          <p:cNvPicPr/>
          <p:nvPr/>
        </p:nvPicPr>
        <p:blipFill>
          <a:blip r:embed="rId1"/>
          <a:stretch/>
        </p:blipFill>
        <p:spPr>
          <a:xfrm>
            <a:off x="108000" y="115920"/>
            <a:ext cx="1650960" cy="1728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3671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33080" y="155736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тоговые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205000"/>
            <a:ext cx="936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    ►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ПП – Союз открытый для отраслевых диалогов – </a:t>
            </a:r>
            <a:r>
              <a:rPr b="1" lang="ru-RU" sz="1800" spc="-1" strike="noStrike">
                <a:solidFill>
                  <a:srgbClr val="fb3b15"/>
                </a:solidFill>
                <a:latin typeface="Arial"/>
              </a:rPr>
              <a:t>Партне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ПП – институт системы технического регулирования в отрасл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а ПВХ-профилей и  СПК – </a:t>
            </a:r>
            <a:r>
              <a:rPr b="1" lang="ru-RU" sz="1800" spc="-1" strike="noStrike">
                <a:solidFill>
                  <a:srgbClr val="fb3b15"/>
                </a:solidFill>
                <a:latin typeface="Arial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    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ПП – не проситель и неудобный рецензент, а отраслево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fb3b15"/>
                </a:solidFill>
                <a:latin typeface="Arial"/>
              </a:rPr>
              <a:t>Законод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    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ёт норм СППП при проектировании, экспертизе,  строитель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дзоре – </a:t>
            </a:r>
            <a:r>
              <a:rPr b="1" lang="ru-RU" sz="1800" spc="-1" strike="noStrike">
                <a:solidFill>
                  <a:srgbClr val="fb3b15"/>
                </a:solidFill>
                <a:latin typeface="Arial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    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ПП – союзник отраслевых объединений и государственных структ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остижении итоговой цели - </a:t>
            </a:r>
            <a:r>
              <a:rPr b="1" lang="ru-RU" sz="1800" spc="-1" strike="noStrike">
                <a:solidFill>
                  <a:srgbClr val="fb3b15"/>
                </a:solidFill>
                <a:latin typeface="Arial"/>
              </a:rPr>
              <a:t>Цивилизованный рынок СП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92360" y="907920"/>
            <a:ext cx="745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333360"/>
            <a:ext cx="69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оздание новой нормативной б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3445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C:\WUTemp\120418 - СППП шаблон\SPPP3.jpg"/>
          <p:cNvPicPr/>
          <p:nvPr/>
        </p:nvPicPr>
        <p:blipFill>
          <a:blip r:embed="rId1"/>
          <a:stretch/>
        </p:blipFill>
        <p:spPr>
          <a:xfrm>
            <a:off x="108000" y="115920"/>
            <a:ext cx="1650960" cy="1728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3671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1125360"/>
            <a:ext cx="8642520" cy="59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fb3b15"/>
                </a:solidFill>
                <a:latin typeface="Arial"/>
              </a:rPr>
              <a:t>Мы рассчитываем, что Вы оцените:</a:t>
            </a:r>
            <a:r>
              <a:rPr b="1" lang="en-US" sz="1800" spc="-1" strike="noStrike">
                <a:solidFill>
                  <a:srgbClr val="fb3b1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3b15"/>
                </a:solidFill>
                <a:latin typeface="Arial"/>
                <a:ea typeface="Arial"/>
              </a:rPr>
              <a:t>►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зрачность и предсказуемость законодательной б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3b15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веренность в  объективности характеристик и параметр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3b15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стную конкуренцию на рынке СП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3b15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ышение качества изделий и представляемых усл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3b15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транение демпин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3b15"/>
                </a:solidFill>
                <a:latin typeface="Arial"/>
              </a:rPr>
              <a:t>►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общественного мнения и создание «шкал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нностей» для потребителей и поставщиков 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3b15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сказуемость работы с корпоративными заказч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3b15"/>
                </a:solidFill>
                <a:latin typeface="Arial"/>
              </a:rPr>
              <a:t>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величение рентабельности Ваших комп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3445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C:\WUTemp\120418 - СППП шаблон\SPPP3.jpg"/>
          <p:cNvPicPr/>
          <p:nvPr/>
        </p:nvPicPr>
        <p:blipFill>
          <a:blip r:embed="rId1"/>
          <a:stretch/>
        </p:blipFill>
        <p:spPr>
          <a:xfrm>
            <a:off x="108000" y="115920"/>
            <a:ext cx="1995480" cy="2089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3671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3213000"/>
            <a:ext cx="49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80000" y="5013360"/>
            <a:ext cx="1655640" cy="914400"/>
          </a:xfrm>
          <a:prstGeom prst="ellipse">
            <a:avLst/>
          </a:prstGeom>
          <a:solidFill>
            <a:srgbClr val="6666ff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114444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642920" y="2852640"/>
            <a:ext cx="73080" cy="216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4581360"/>
            <a:ext cx="144000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435640" y="4653000"/>
            <a:ext cx="1440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64320" y="1125360"/>
            <a:ext cx="312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сте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хнического регул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1948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3860640"/>
            <a:ext cx="410544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27640" y="3789360"/>
            <a:ext cx="1656000" cy="914400"/>
          </a:xfrm>
          <a:prstGeom prst="ellipse">
            <a:avLst/>
          </a:prstGeom>
          <a:solidFill>
            <a:srgbClr val="fb3b15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3860640"/>
            <a:ext cx="1656000" cy="843120"/>
          </a:xfrm>
          <a:prstGeom prst="ellipse">
            <a:avLst/>
          </a:prstGeom>
          <a:solidFill>
            <a:srgbClr val="a1839b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1844640"/>
            <a:ext cx="3024000" cy="10080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2f752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сте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хнического регул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421000"/>
            <a:ext cx="1295640" cy="151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7480" y="4076640"/>
            <a:ext cx="252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рмат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вная б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12480" y="4076640"/>
            <a:ext cx="25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дзор 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979640" y="2492280"/>
            <a:ext cx="12240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0160" y="1125360"/>
            <a:ext cx="3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:\WUTemp\120418 - СППП шаблон\SPPP3.jpg"/>
          <p:cNvPicPr/>
          <p:nvPr/>
        </p:nvPicPr>
        <p:blipFill>
          <a:blip r:embed="rId1"/>
          <a:stretch/>
        </p:blipFill>
        <p:spPr>
          <a:xfrm>
            <a:off x="108000" y="115920"/>
            <a:ext cx="1650960" cy="172872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914400" y="404640"/>
            <a:ext cx="82296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юз производителей полимерных профиле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5013360"/>
            <a:ext cx="1655640" cy="914400"/>
          </a:xfrm>
          <a:prstGeom prst="ellipse">
            <a:avLst/>
          </a:prstGeom>
          <a:solidFill>
            <a:srgbClr val="6666ff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06240" y="5300640"/>
            <a:ext cx="304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74320" y="649116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92360" y="907920"/>
            <a:ext cx="745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40464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уществующая отраслевая нормативная 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760" y="1197000"/>
            <a:ext cx="859968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Основные стандарты на материалы и изделия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СТ 30673-99   Профили поливинилхлоридные для оконных и дверных бло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хнические  услов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СТ 23166-99   Блоки оконные. Общие технические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СТ 30674-99   Блоки оконные из поливинилхлоридных профи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СТ 24866-99   Стеклопакеты клееные строительного назнач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хнические услов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СТ 30970-02   Блоки дверные из поливинилхлоридных профи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СТ 30971-02   Швы монтажные узлов примыканий оконных блоков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еновым проемам. Общие технические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WUTemp\120418 - СППП шаблон\SPPP3.jpg"/>
          <p:cNvPicPr/>
          <p:nvPr/>
        </p:nvPicPr>
        <p:blipFill>
          <a:blip r:embed="rId1"/>
          <a:stretch/>
        </p:blipFill>
        <p:spPr>
          <a:xfrm>
            <a:off x="108000" y="115920"/>
            <a:ext cx="165096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35280" y="2565360"/>
            <a:ext cx="360360" cy="34560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WUTemp\120418 - СППП шаблон\SPPP3.jpg"/>
          <p:cNvPicPr/>
          <p:nvPr/>
        </p:nvPicPr>
        <p:blipFill>
          <a:blip r:embed="rId2"/>
          <a:stretch/>
        </p:blipFill>
        <p:spPr>
          <a:xfrm>
            <a:off x="179280" y="189000"/>
            <a:ext cx="1650960" cy="17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WUTemp\120418 - СППП шаблон\SPPP3.jpg"/>
          <p:cNvPicPr/>
          <p:nvPr/>
        </p:nvPicPr>
        <p:blipFill>
          <a:blip r:embed="rId3"/>
          <a:stretch/>
        </p:blipFill>
        <p:spPr>
          <a:xfrm>
            <a:off x="179280" y="189000"/>
            <a:ext cx="16509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92360" y="907920"/>
            <a:ext cx="745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6560" y="1341360"/>
            <a:ext cx="9677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Существующим стандартам более 10 лет. Уровень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хнологии изготовления профильных систем и СПК уш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ко вперед  – от терминов до характерис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Не существует института способного аккумулировать проблемы отра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разработать концепцию ее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оисходит глубокое слияние экономических пространств с ЕС, В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 таможен. Союз стран постсоветского пространства. Существ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ходы и стандарты разрознены и не согласуются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Усиливаются тенденции к применению расчетных методов опред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арактеристик изделий. Испытательные центры держат «глухую оборону»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заинтересованы в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од первых отраслевых стандартов дал мощный импуль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ю отрасли. Сегодня этот момент не менее актуал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WUTemp\120418 - СППП шаблон\SPPP3.jpg"/>
          <p:cNvPicPr/>
          <p:nvPr/>
        </p:nvPicPr>
        <p:blipFill>
          <a:blip r:embed="rId1"/>
          <a:stretch/>
        </p:blipFill>
        <p:spPr>
          <a:xfrm>
            <a:off x="108000" y="115920"/>
            <a:ext cx="1650960" cy="1728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79640" y="333360"/>
            <a:ext cx="69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уществующая отраслевая нормативная 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92360" y="836640"/>
            <a:ext cx="745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33336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оздание новой нормативной б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052640"/>
            <a:ext cx="896472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тандарты на материалы, изделия и процес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 2012г.: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ГОСТ Р 54175-20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теклопакеты клееные. Технические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ГОСТ Р 54176-20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текло с низкоэмиссионным мягким покрытие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е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ГОСТ Р 54170-20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текло листовое бесцветное Технические усло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процес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ГОСТ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или поливинилхлоридные для оконных 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ерных блоков. Технические  усло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СТО НОСТР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СВЕТОПРОЗРАЧНЫЕ ОГРАЖДАЮЩИЕ КОНСТРУКЦИИ ЗДА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ООРУЖЕН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b3b15"/>
                </a:solidFill>
                <a:latin typeface="Arial"/>
              </a:rPr>
              <a:t>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е требования к конструкции окон и их проект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b3b15"/>
                </a:solidFill>
                <a:latin typeface="Arial"/>
              </a:rPr>
              <a:t>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е требования к монтажу окон. Порядок выполн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ача-приемка работ. Правила и методы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b3b15"/>
                </a:solidFill>
                <a:latin typeface="Arial"/>
              </a:rPr>
              <a:t>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обследования технического состояния светопрозра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кций в натурных услов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:\WUTemp\120418 - СППП шаблон\SPPP3.jpg"/>
          <p:cNvPicPr/>
          <p:nvPr/>
        </p:nvPicPr>
        <p:blipFill>
          <a:blip r:embed="rId1"/>
          <a:stretch/>
        </p:blipFill>
        <p:spPr>
          <a:xfrm>
            <a:off x="179280" y="115920"/>
            <a:ext cx="15559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3141720"/>
            <a:ext cx="2016360" cy="2735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рофили ПВ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Уплотн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рм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Креп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1484280"/>
            <a:ext cx="5042160" cy="64944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50000">
                <a:srgbClr val="0046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51640" y="3141720"/>
            <a:ext cx="1692360" cy="12970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3141720"/>
            <a:ext cx="2736720" cy="280836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2f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3141720"/>
            <a:ext cx="2016000" cy="2592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4040" y="1557360"/>
            <a:ext cx="44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ормативная база в области С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71640" y="2637000"/>
            <a:ext cx="120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3500280"/>
            <a:ext cx="1944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Блоки ок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Блоки двер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Стеклопак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Фурни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357720"/>
            <a:ext cx="2952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Проект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и конструирование С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Изготовление СПК (Т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Монтаж С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Контроль, сдач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-приемка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2880" y="3357720"/>
            <a:ext cx="171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240" y="263700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2520" y="263700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7600" y="263700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ы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694000">
            <a:off x="879120" y="2209680"/>
            <a:ext cx="1150920" cy="1447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8127600">
            <a:off x="3131280" y="2420640"/>
            <a:ext cx="777960" cy="144360"/>
          </a:xfrm>
          <a:custGeom>
            <a:avLst/>
            <a:gdLst>
              <a:gd name="textAreaLeft" fmla="*/ 97200 w 777960"/>
              <a:gd name="textAreaRight" fmla="*/ 680760 w 7779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675400">
            <a:off x="5298840" y="2424240"/>
            <a:ext cx="857160" cy="144360"/>
          </a:xfrm>
          <a:custGeom>
            <a:avLst/>
            <a:gdLst>
              <a:gd name="textAreaLeft" fmla="*/ 106920 w 857160"/>
              <a:gd name="textAreaRight" fmla="*/ 750240 w 8571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525400">
            <a:off x="7036920" y="2355480"/>
            <a:ext cx="912960" cy="142920"/>
          </a:xfrm>
          <a:custGeom>
            <a:avLst/>
            <a:gdLst>
              <a:gd name="textAreaLeft" fmla="*/ 114120 w 912960"/>
              <a:gd name="textAreaRight" fmla="*/ 798840 w 91296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3708360" y="260280"/>
            <a:ext cx="77868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труктура нормативной б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:\WUTemp\120418 - СППП шаблон\SPPP3.jpg"/>
          <p:cNvPicPr/>
          <p:nvPr/>
        </p:nvPicPr>
        <p:blipFill>
          <a:blip r:embed="rId1"/>
          <a:stretch/>
        </p:blipFill>
        <p:spPr>
          <a:xfrm>
            <a:off x="108000" y="115920"/>
            <a:ext cx="1079280" cy="1130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92360" y="836640"/>
            <a:ext cx="745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92360" y="907920"/>
            <a:ext cx="745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33336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зработка стандартов СП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3445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C:\WUTemp\120418 - СППП шаблон\SPPP3.jpg"/>
          <p:cNvPicPr/>
          <p:nvPr/>
        </p:nvPicPr>
        <p:blipFill>
          <a:blip r:embed="rId1"/>
          <a:stretch/>
        </p:blipFill>
        <p:spPr>
          <a:xfrm>
            <a:off x="108000" y="115920"/>
            <a:ext cx="1650960" cy="1728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50920" y="1197000"/>
            <a:ext cx="8893080" cy="50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ы СППП на  выпускаемую продукцию (материалы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b3b15"/>
                </a:solidFill>
                <a:latin typeface="Arial"/>
              </a:rPr>
              <a:t>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и ПВХ для изготовления оконных и дверных блоков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и   систем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b3b15"/>
                </a:solidFill>
                <a:latin typeface="Arial"/>
              </a:rPr>
              <a:t>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и ПВХ для изготовления оконных и дверных блок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и дополни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b3b15"/>
                </a:solidFill>
                <a:latin typeface="Arial"/>
              </a:rPr>
              <a:t>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и ПВХ для изготовления оконных и дверных блок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и цве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92360" y="907920"/>
            <a:ext cx="745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33336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зработка стандартов СП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3445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C:\WUTemp\120418 - СППП шаблон\SPPP3.jpg"/>
          <p:cNvPicPr/>
          <p:nvPr/>
        </p:nvPicPr>
        <p:blipFill>
          <a:blip r:embed="rId1"/>
          <a:stretch/>
        </p:blipFill>
        <p:spPr>
          <a:xfrm>
            <a:off x="108000" y="115920"/>
            <a:ext cx="1650960" cy="1728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9640" y="1197000"/>
            <a:ext cx="8353440" cy="10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                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групп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ы СППП на издел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онные и балконные блоки, двери входные,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b3b15"/>
                </a:solidFill>
                <a:latin typeface="Arial"/>
              </a:rPr>
              <a:t>   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и оконные и дверные из ПВХ-профи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b3b15"/>
                </a:solidFill>
                <a:latin typeface="Arial"/>
              </a:rPr>
              <a:t>   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и дверные для наружных дверей из ПВХ-профи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b3b15"/>
                </a:solidFill>
                <a:latin typeface="Arial"/>
              </a:rPr>
              <a:t>   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и оконные и дверные из ПВХ-профилей с вклеенным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клопаке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b3b15"/>
                </a:solidFill>
                <a:latin typeface="Arial"/>
              </a:rPr>
              <a:t>   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ражное остекление из ПВХ-проф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b3b15"/>
                </a:solidFill>
                <a:latin typeface="Arial"/>
              </a:rPr>
              <a:t>   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екление балконов и лоджий с применением оконных блок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ПВХ-проф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92360" y="907920"/>
            <a:ext cx="745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3336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зработка стандартов СП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3445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C:\WUTemp\120418 - СППП шаблон\SPPP3.jpg"/>
          <p:cNvPicPr/>
          <p:nvPr/>
        </p:nvPicPr>
        <p:blipFill>
          <a:blip r:embed="rId1"/>
          <a:stretch/>
        </p:blipFill>
        <p:spPr>
          <a:xfrm>
            <a:off x="108000" y="115920"/>
            <a:ext cx="1650960" cy="1728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4000" y="1268280"/>
            <a:ext cx="8569080" cy="59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рупп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Соответств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руппа стандарто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b3b15"/>
                </a:solidFill>
                <a:latin typeface="Arial"/>
              </a:rPr>
              <a:t>         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испытаний ПВХ-профи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b3b15"/>
                </a:solidFill>
                <a:latin typeface="Arial"/>
              </a:rPr>
              <a:t>         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испытаний оконных бл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уализация методов проведения испытаний с норм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ом российских климатических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2:16:06Z</dcterms:created>
  <dc:creator>28artjus01</dc:creator>
  <dc:description/>
  <dc:language>en-US</dc:language>
  <cp:lastModifiedBy>28artjus01</cp:lastModifiedBy>
  <dcterms:modified xsi:type="dcterms:W3CDTF">2012-04-22T22:29:03Z</dcterms:modified>
  <cp:revision>8</cp:revision>
  <dc:subject/>
  <dc:title>Слайд 1</dc:title>
</cp:coreProperties>
</file>